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A69-E656-436C-BF8B-01268493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E30-910F-43CB-A2A9-809FA634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7E3-FACA-4507-B8D5-C282F6FF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2A0-35A6-44D1-8D7B-A7A6A6F4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E7F-D621-4904-94A0-7C9B3752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066-B15D-4D2C-80E3-6DC6A04E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8B1-765B-41EB-9566-A31ED126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C0A-10AF-4111-BDED-FF4F7064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BA2-C4F1-440E-8ABC-CF6F2260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C60-9DF8-494F-8264-43EA859B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975-0318-49E0-A6AC-BB55A4B8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E4A-E6AE-4F4D-819D-1DE7F4C0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F8CE1-A542-4C96-8EDC-57D6E7E6E0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fly1BgWHT" descr=""/>
          <p:cNvPicPr/>
          <p:nvPr/>
        </p:nvPicPr>
        <p:blipFill>
          <a:blip r:embed=""/>
          <a:stretch/>
        </p:blipFill>
        <p:spPr>
          <a:xfrm>
            <a:off x="1017720" y="1260360"/>
            <a:ext cx="8161200" cy="501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Arial"/>
              </a:rPr>
              <a:t>As F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40217_fleurs" descr=""/>
          <p:cNvPicPr/>
          <p:nvPr/>
        </p:nvPicPr>
        <p:blipFill>
          <a:blip r:embed=""/>
          <a:stretch/>
        </p:blipFill>
        <p:spPr>
          <a:xfrm>
            <a:off x="5494320" y="1768320"/>
            <a:ext cx="3741840" cy="4989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da Mulher gosta de receber flores ,mas no fundo nós ficamos com dó quando elas morr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st-Flower" descr=""/>
          <p:cNvPicPr/>
          <p:nvPr/>
        </p:nvPicPr>
        <p:blipFill>
          <a:blip r:embed=""/>
          <a:stretch/>
        </p:blipFill>
        <p:spPr>
          <a:xfrm>
            <a:off x="5151600" y="260352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flores estão em todos os lugares, nos corações dos apaixonados, na mais alta montanha,até no meio das ped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atering_flowers_md" descr=""/>
          <p:cNvPicPr/>
          <p:nvPr/>
        </p:nvPicPr>
        <p:blipFill>
          <a:blip r:embed=""/>
          <a:stretch/>
        </p:blipFill>
        <p:spPr>
          <a:xfrm>
            <a:off x="5151600" y="2408400"/>
            <a:ext cx="4425840" cy="3709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gue o coração de quem se ama a cada dia em todos os momentos de sua vida. Pois quando você rega os corações dos amigos o seu sera regado sem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50" name="petunia2" descr=""/>
          <p:cNvPicPr/>
          <p:nvPr/>
        </p:nvPicPr>
        <p:blipFill>
          <a:blip r:embed=""/>
          <a:stretch/>
        </p:blipFill>
        <p:spPr>
          <a:xfrm>
            <a:off x="5940360" y="2160720"/>
            <a:ext cx="3060720" cy="377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isso  eu estou regando seu co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 Tã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Sil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30:25Z</dcterms:created>
  <dc:creator/>
  <dc:description/>
  <dc:language>en-US</dc:language>
  <cp:lastModifiedBy/>
  <cp:revision>1</cp:revision>
  <dc:subject/>
  <dc:title/>
</cp:coreProperties>
</file>